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C133-1BCD-4BE4-B3EC-88F51FC0D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6C20-B614-4983-8317-4B5553C0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AEE6-5834-4B58-A685-00B62F962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1A16-6DE2-4EBE-AC16-77481F06D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F484D-A2F1-4A20-B6E6-B5D0B3E03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D2DD-02E1-4639-AAC2-375E5999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24BE4-8DEE-45EA-BC57-A27C3A33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D8244-30B2-4172-AC0F-5577901A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3863-A48B-4D86-AEE3-3718F883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F4A79-FF50-40FC-BEBB-50BC52D8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D4B7-5C0A-428B-98A6-5823D299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9723-5B45-4DFF-B036-5816901C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E090-98CD-4C55-8273-D483ECB7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5A1B-4329-43BA-A4F7-EE7121A9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E5C98-260F-4EEB-BEAF-75E96C90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A1736-D619-4F34-B7A5-5CED21840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3EDA-A4CB-4B0D-8DB0-2174461E2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A644-DA70-430F-AB3E-797DD3FF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CD78-B97E-4D5D-81E8-0B8CC133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C786-322B-4D4A-8698-AB3B2C47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4B28-C40D-4355-8FDD-9FD2C24E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28D5-99BF-4097-8FDC-FDB2F10A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C6B9-1055-48A9-B520-8C6F5D61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6A18-58D1-46A2-ADF9-B165A418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D106-EBAB-4943-8820-0EDFCC767F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6003-582E-4DF5-B36C-3B049F425E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1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image" Target="../media/image52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1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Futbol catologo 2012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Greg and Daksh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0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019920" y="3124080"/>
            <a:ext cx="281916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ijamas de futbol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pijamas de futbol. Es colores en azul, blanco y negro. Cuasta 20 pes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80880" y="3352680"/>
            <a:ext cx="1638360" cy="28958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3886200" y="3581280"/>
            <a:ext cx="1332000" cy="22291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5257800" y="3429000"/>
            <a:ext cx="3124080" cy="25509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1981080" y="3505320"/>
            <a:ext cx="191772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a cartera y sandalias de futbo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carteras de futbol. Son de arsenal y FCB .multiple sandalias de futbol. Son de adid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296040" y="3657600"/>
            <a:ext cx="2847960" cy="20653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358128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4114800" y="3657600"/>
            <a:ext cx="2209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itones y reloj de futbo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reloj son de MLS. Uno mitones de futbol. Son de NI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2286000" y="33526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4572000" y="33526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6781680" y="3352680"/>
            <a:ext cx="2133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Biletes locales de MLS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aquetes de jue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England Rev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game                2 games         3 games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5 pesos             60 pesos         100 pes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200400" y="4419720"/>
            <a:ext cx="2847960" cy="16095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457200" y="43434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6553080" y="43434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5791320" y="228600"/>
            <a:ext cx="2095560" cy="11732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7467480" y="1600200"/>
            <a:ext cx="1220760" cy="1628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7"/>
          <a:stretch/>
        </p:blipFill>
        <p:spPr>
          <a:xfrm>
            <a:off x="838080" y="1523880"/>
            <a:ext cx="120672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una zapatos de futbo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o messi lleva azul Adidas tacos de futbol. Los tacos cuatsta 160 pes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18320" y="5562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162920" y="152280"/>
            <a:ext cx="1828800" cy="1476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33520" y="4267080"/>
            <a:ext cx="3657600" cy="1762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6400800" y="3276720"/>
            <a:ext cx="2209680" cy="2666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533520" y="2895480"/>
            <a:ext cx="1361880" cy="1381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amisetas de futbo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camisetas de futbol. Son de Chivas USA, New england Revolution y FCB. Cuasta 50 pes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162920" y="228600"/>
            <a:ext cx="1276200" cy="1343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80880" y="5105520"/>
            <a:ext cx="1695600" cy="1009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133720" y="5105520"/>
            <a:ext cx="2124000" cy="990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6858000" y="4724280"/>
            <a:ext cx="1790640" cy="1381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4572000" y="4267080"/>
            <a:ext cx="2247840" cy="1791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380880" y="3886200"/>
            <a:ext cx="1676520" cy="1219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2057400" y="3886200"/>
            <a:ext cx="2286000" cy="12477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8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alcetines de futbo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tiple calcentines de futbol. Son de LA Galaxy (David Beckham). Colores en verde y blanco. Cuasta 30 pes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3657600"/>
            <a:ext cx="2133720" cy="2438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133720" y="3657600"/>
            <a:ext cx="1676160" cy="2438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715000" y="3733920"/>
            <a:ext cx="3009960" cy="2438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antalones cortes de futbo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s panatlones cortes de futbol. Son de BPL. Cuasta 45 pes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85800" y="3048120"/>
            <a:ext cx="4038480" cy="27478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095880" y="3581280"/>
            <a:ext cx="2772000" cy="2124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4419720" y="3581280"/>
            <a:ext cx="167616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alon de futbo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balons de futbol. Son de MLS y BPL. cuatsa 20 pes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38080" y="35053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5943600" y="3733920"/>
            <a:ext cx="2533680" cy="1809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5410080" y="304920"/>
            <a:ext cx="1562400" cy="13525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2971800" y="3657600"/>
            <a:ext cx="1514520" cy="20192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4419720" y="3809880"/>
            <a:ext cx="162864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orras de ML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gorras de MLS, San Jose, Chicago y Seatle. Cuasta 15 pes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410080" y="2286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31240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5562720" y="2819520"/>
            <a:ext cx="3314520" cy="2771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2743200" y="3886200"/>
            <a:ext cx="281952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ueter y guantes de futbo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 de MLS, Brazil y FCB. Cuasta 65 pes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257800" y="3886200"/>
            <a:ext cx="1749600" cy="2332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971800" y="3200400"/>
            <a:ext cx="2284560" cy="29718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7010280" y="3505320"/>
            <a:ext cx="2019600" cy="26953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228600" y="3809880"/>
            <a:ext cx="2743200" cy="1800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ufanda de futbo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 de MLS, multiple bufandas. 35 pes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67080" y="2590920"/>
            <a:ext cx="4876920" cy="37116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019920" y="609480"/>
            <a:ext cx="2933640" cy="868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0" y="5049720"/>
            <a:ext cx="4191120" cy="9604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838080" y="2971800"/>
            <a:ext cx="2971800" cy="1981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18:00:46Z</dcterms:created>
  <dc:creator>fawkesgre</dc:creator>
  <dc:description/>
  <dc:language>en-US</dc:language>
  <cp:lastModifiedBy>fawkesgre</cp:lastModifiedBy>
  <dcterms:modified xsi:type="dcterms:W3CDTF">2013-01-04T17:53:53Z</dcterms:modified>
  <cp:revision>13</cp:revision>
  <dc:subject/>
  <dc:title>Slide 1</dc:title>
</cp:coreProperties>
</file>